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478-FC63-458E-8594-AC923307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844-FC5F-4EC9-B167-6482A060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3F294-C35E-47C2-A01B-D8D4049D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097BF-6D37-4FB2-B8A2-A2F20D36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68991-27C0-4CBD-AFBC-3E66273B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BE3BD-27C5-4E4A-BE71-0CD7A74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5DD46-AFCD-4504-AE62-DE2332A3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31B3B-553C-4F37-9506-9FBD3426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E98B8-8461-4436-A0BB-5856CF60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F829E-7E87-4108-93E6-5F831B8B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37D43-DC19-4283-B856-33373065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33BCF-83F9-4E51-9DC1-A45B3487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A10-A152-4727-82AC-3C84DE87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A4D00-3EAA-41C0-AAB0-E6F848B3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E5EAC-5045-461C-A3B7-21F25CA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3419B-326E-4BA5-B635-84D25E4C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DE263-D371-4502-9E39-24958D87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C7354-AD9B-46DE-AACA-D93818D2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2F441-985A-4727-AA34-7A496BB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1B3ED-F2B1-4E94-9381-5B3923A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1CB72-2413-46DD-A5C6-BE134074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8BA36-74F7-49F1-8270-9EC5F88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7D188-1E8D-4A06-BE05-62B16A2F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FBA-311B-46A4-9DC3-C5EF80F8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1D4DE-C466-4480-BAA0-26D50BE6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D478-DE69-4B8D-B172-CF50F7C3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54C9-1CF8-40DE-8064-7E79365A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6111-8AD9-43FE-8EF9-470A1C67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9278-7B8A-4E1F-88DF-1F76228A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2FD6-A7B6-4C53-9410-F50AA52A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63A6-D5FF-4560-8590-525B5381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1912-B637-4CCF-941B-4D36A0A3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C0E-F199-45D0-9641-E2B26E4E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B9B2-93F9-48BF-8665-95B33317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1175-056C-497F-BF1E-6C6EC07E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3A33-6160-4BC5-851C-747B371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07B9-F255-4D83-BC84-A42FC3C7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10E8-D1E1-45C0-A306-E579DBCA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9488-0D7C-489D-8767-DDFF0E39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6F00-721D-4726-B693-8C8DE46F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3341-811F-4F9F-8778-52589C38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130B-C76D-4275-8935-6464F849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FC3D6-64AD-46B2-BE2F-64CDDFC0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24B-BAC5-458D-9078-29F094C0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5BE3-3902-4E53-B205-96185ACE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17C87-C95F-444E-95B6-44805625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3EEC-91FE-4A28-9ACB-47C8415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5C69-94B1-4BDF-8D7F-CECC97B5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2E24-019C-49ED-AC4D-DE18A3C7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A0E8-2D39-4560-9359-EE317E26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2D7B-0810-45D3-BAC6-DF91ECE7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AABB-9B18-409B-A8D1-EE16DE3A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B162-80CF-4A08-9E01-78BE09F8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C772-3E0F-44DB-86F7-84EA028E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50C-D860-4817-B563-708EBD47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7967-741F-433F-92EE-7F2A7BC1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3415-038D-4A0E-AB59-BFCDA899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6107D-10B6-44AE-8139-694CF430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817A3-F59C-4B9D-9C2F-D5009E1C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C507-53B1-402E-817B-C3A7B04F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3731-5876-444D-A1B7-7EF476B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D25DB-C3D2-4E32-ABAD-18C05372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82289-FBEE-427D-9C20-843D1073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230EA-2B1C-4780-8B4F-A8020E71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E90AD-E8E4-45F8-87D6-371382B4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160-AD74-4FA7-8615-1DB846DB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E03F7-1B85-4456-BD76-FDCBA75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D1A9E-E611-4BD8-92E9-BDF6A900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DCE41-2C4F-4A96-AF3D-8FB3195F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163AA-2594-4875-A23B-8BE9B5D0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9D3F6-1775-4B9C-905E-85C8B94A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04195-5FEA-4882-BC3C-C2A6C10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917D-E167-481A-9C12-C3A30ABB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524E0-2296-43F5-81C0-D30C6EC6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C099-8656-454B-AE2D-B3C34663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15190-64B4-4FD4-86AB-77DE6A86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E3C-1CD0-4218-962F-48DDDF9F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D18B-0225-4A0D-8891-7349358B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5CD27-00D4-45A9-B808-8ED6B89CBA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BD77C-012E-4F48-A306-B61A682DEF2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693B8-049F-40A6-B04C-927F105AE1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9A53A-DD73-485F-9F79-F228085AFD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353B9-0EC3-43F4-AB7F-1D787FE323F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3BFFB-D325-4597-A233-4B0F41B6D8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F2381-E93C-4501-A3CA-792FCBB351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57C99-4BD9-428A-A99D-C515BDA4D05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13D81-9089-43D1-82F4-35E01F0B9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DA8-6130-427D-87ED-2330DD8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79829-92B5-4309-83B2-AAF447BF5A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66304-3450-4A8F-825D-92FBB1E75F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8B7F4-C93D-495A-98C7-CA388B1790C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D10AAA-1C78-4708-8945-E2CF990EECE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B993AC-9DF0-4269-AB7C-F9AC5652D3A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7D69B-0103-4369-AC7F-890F1DC9DE1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083D27-A9DA-4BA5-AA50-96CC922DC1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6AC37B-E668-4858-B0D5-293AE6CD5B7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4C51B1-6C55-496E-8CB3-A02B1D24D6C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8BF62C-378E-413B-AFB7-524EEC523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D72-FC8B-4B64-8EE9-56C2CEA4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78126-5AB6-4896-B5FA-3316A49FE0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CFC1AC-A78A-4370-AE2C-57EBAC7389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57335-8313-4A9A-A9B9-6B7A478F00E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1878FD-AE04-4E62-9B68-C3A7338E9E8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3CFADC-FE22-467E-9A4E-EABB438B06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987CF-3F09-4C15-A303-CCBBCE0B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7519A2-9E13-4F29-A1E5-EF12B2BC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AE1FDD-F47F-41E6-97C6-BAD81895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EB988D-FE40-41DC-9A1A-5D9BECE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8F221-EBB5-4728-B54F-81C7901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70C-666D-43DA-92E2-2BEB3B1C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B198D-3A2E-41A6-B25E-5015F2EC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B1BD51-C3E4-4D2F-A499-2AE99EF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918542-5D27-4724-BD43-567902B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E0004A-0C70-41E9-9018-39A2DEA3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8C5E92-5C7E-4928-8430-9D2375A1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4FCCA9-6A08-4256-AB01-38D37C89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362490-E6CF-4A22-8BB7-736FCA8B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3F418-CE48-4DF7-89BE-C9CC4F0B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D7620-E535-4751-B565-B557F731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8E26F-432F-4FAC-83F9-C5A1550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EFD8BC9-E8E3-4ACD-8EDE-DD8953FF5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58C5401-1349-4AA7-8682-AA9A17200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A649C3C-D03D-42AB-8367-1F17C0B61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A402284-4E13-424D-8F43-3C231810B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B2A9842-7713-46BE-9680-1CE631A97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21CD767-F09C-4925-991F-13CCD0F76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8632E11-A9D5-4A7C-B6BC-C8EBF69EB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F8DF512-585B-45C9-A51A-4F5BFAAE9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nsumer Choice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EAE0ABB-1C8A-4441-97A5-61A3681E4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FC7B8FD-B94C-4E4A-9AF4-0F3A9474A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6611040" y="29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8"/>
          <p:cNvSpPr/>
          <p:nvPr/>
        </p:nvSpPr>
        <p:spPr>
          <a:xfrm>
            <a:off x="6593040" y="338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0"/>
          <p:cNvSpPr/>
          <p:nvPr/>
        </p:nvSpPr>
        <p:spPr>
          <a:xfrm>
            <a:off x="4162320" y="377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1"/>
          <p:cNvSpPr/>
          <p:nvPr/>
        </p:nvSpPr>
        <p:spPr>
          <a:xfrm>
            <a:off x="4176720" y="418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6663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664632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6"/>
          <p:cNvSpPr/>
          <p:nvPr/>
        </p:nvSpPr>
        <p:spPr>
          <a:xfrm>
            <a:off x="4176720" y="535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168800" y="574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588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rational consumer should purchase the product that yields the greatest marginal utility per dol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0E78FE0-75E8-4638-82A5-1612C7723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2487600" y="2881440"/>
            <a:ext cx="4125960" cy="1074600"/>
            <a:chOff x="2487600" y="2881440"/>
            <a:chExt cx="4125960" cy="1074600"/>
          </a:xfrm>
        </p:grpSpPr>
        <p:sp>
          <p:nvSpPr>
            <p:cNvPr id="499" name="Rounded Rectangle 8"/>
            <p:cNvSpPr/>
            <p:nvPr/>
          </p:nvSpPr>
          <p:spPr>
            <a:xfrm>
              <a:off x="2487600" y="2881440"/>
              <a:ext cx="412596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2944800" y="2987640"/>
              <a:ext cx="3268440" cy="9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58920" y="4379760"/>
            <a:ext cx="4891320" cy="17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80792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maximize utility, a consumer should spend her budget so that $MU spent on all products is equ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C07B204-DEA4-408E-AEDD-FCFFBD600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14"/>
          <p:cNvGrpSpPr/>
          <p:nvPr/>
        </p:nvGrpSpPr>
        <p:grpSpPr>
          <a:xfrm>
            <a:off x="2541600" y="3530520"/>
            <a:ext cx="4124160" cy="1073160"/>
            <a:chOff x="2541600" y="3530520"/>
            <a:chExt cx="4124160" cy="1073160"/>
          </a:xfrm>
        </p:grpSpPr>
        <p:sp>
          <p:nvSpPr>
            <p:cNvPr id="512" name="Rounded Rectangle 8"/>
            <p:cNvSpPr/>
            <p:nvPr/>
          </p:nvSpPr>
          <p:spPr>
            <a:xfrm>
              <a:off x="2541600" y="3530520"/>
              <a:ext cx="4124160" cy="10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1"/>
            <a:stretch/>
          </p:blipFill>
          <p:spPr>
            <a:xfrm>
              <a:off x="2690280" y="3636720"/>
              <a:ext cx="3848040" cy="89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F8A68A4-68C3-4D0F-BBED-258AA8466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903240" y="317520"/>
          <a:ext cx="7326360" cy="2468520"/>
        </p:xfrm>
        <a:graphic>
          <a:graphicData uri="http://schemas.openxmlformats.org/drawingml/2006/table">
            <a:tbl>
              <a:tblPr/>
              <a:tblGrid>
                <a:gridCol w="1022400"/>
                <a:gridCol w="1100160"/>
                <a:gridCol w="1643040"/>
                <a:gridCol w="1057320"/>
                <a:gridCol w="901800"/>
                <a:gridCol w="1601640"/>
              </a:tblGrid>
              <a:tr h="2682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CES OF PA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914400" y="3013200"/>
          <a:ext cx="7315200" cy="3344760"/>
        </p:xfrm>
        <a:graphic>
          <a:graphicData uri="http://schemas.openxmlformats.org/drawingml/2006/table">
            <a:tbl>
              <a:tblPr/>
              <a:tblGrid>
                <a:gridCol w="1422360"/>
                <a:gridCol w="1117800"/>
                <a:gridCol w="1109520"/>
                <a:gridCol w="1319040"/>
                <a:gridCol w="1263960"/>
                <a:gridCol w="1082520"/>
              </a:tblGrid>
              <a:tr h="56592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$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f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x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8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2" name="Oval 15"/>
          <p:cNvSpPr/>
          <p:nvPr/>
        </p:nvSpPr>
        <p:spPr>
          <a:xfrm>
            <a:off x="7145280" y="11383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16"/>
          <p:cNvSpPr/>
          <p:nvPr/>
        </p:nvSpPr>
        <p:spPr>
          <a:xfrm>
            <a:off x="3565440" y="113040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17"/>
          <p:cNvSpPr/>
          <p:nvPr/>
        </p:nvSpPr>
        <p:spPr>
          <a:xfrm>
            <a:off x="7151760" y="1400040"/>
            <a:ext cx="56340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3568680" y="1400040"/>
            <a:ext cx="56376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19"/>
          <p:cNvSpPr/>
          <p:nvPr/>
        </p:nvSpPr>
        <p:spPr>
          <a:xfrm>
            <a:off x="714204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0"/>
          <p:cNvSpPr/>
          <p:nvPr/>
        </p:nvSpPr>
        <p:spPr>
          <a:xfrm>
            <a:off x="355752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21"/>
          <p:cNvSpPr/>
          <p:nvPr/>
        </p:nvSpPr>
        <p:spPr>
          <a:xfrm>
            <a:off x="3568680" y="195264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2"/>
          <p:cNvSpPr/>
          <p:nvPr/>
        </p:nvSpPr>
        <p:spPr>
          <a:xfrm>
            <a:off x="903240" y="358308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932040" y="386712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4"/>
          <p:cNvSpPr/>
          <p:nvPr/>
        </p:nvSpPr>
        <p:spPr>
          <a:xfrm>
            <a:off x="915840" y="4130640"/>
            <a:ext cx="7315200" cy="5684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5"/>
          <p:cNvSpPr/>
          <p:nvPr/>
        </p:nvSpPr>
        <p:spPr>
          <a:xfrm>
            <a:off x="912960" y="468468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903240" y="524520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7"/>
          <p:cNvSpPr/>
          <p:nvPr/>
        </p:nvSpPr>
        <p:spPr>
          <a:xfrm>
            <a:off x="930240" y="579924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912960" y="6076800"/>
            <a:ext cx="7315200" cy="27648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9E3241A-56CC-442E-9784-74F46B3AB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6455C7F-162C-498C-B78F-86E44EF24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Rectangle 1"/>
          <p:cNvSpPr/>
          <p:nvPr/>
        </p:nvSpPr>
        <p:spPr>
          <a:xfrm>
            <a:off x="606600" y="409392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 rational consumer would choose an apple because it has the highest MU per $ as seen here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pple   Beer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Ice Cream   Hot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MU/Pric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7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  7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Theor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sights into Consumer Behaviour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with low income elasticities (water, food) have the highest initial marginal utilities, will be purchased fir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 applies only to the purchasing of the product, not to its repeated “consumption”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compare utilities between peop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D605C93-2CA0-4487-AF94-06E50B07F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09840"/>
            <a:ext cx="8229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io’s Dollar Marginal Ut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Curve, Deri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C3341F9-AE41-4165-91BA-3A9E9FE1F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51040" y="2178000"/>
          <a:ext cx="3571560" cy="2743200"/>
        </p:xfrm>
        <a:graphic>
          <a:graphicData uri="http://schemas.openxmlformats.org/drawingml/2006/table">
            <a:tbl>
              <a:tblPr/>
              <a:tblGrid>
                <a:gridCol w="2336760"/>
                <a:gridCol w="12348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207040" y="2154240"/>
          <a:ext cx="2651040" cy="3657600"/>
        </p:xfrm>
        <a:graphic>
          <a:graphicData uri="http://schemas.openxmlformats.org/drawingml/2006/table">
            <a:tbl>
              <a:tblPr/>
              <a:tblGrid>
                <a:gridCol w="1285920"/>
                <a:gridCol w="13651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92DA726-2A32-408C-9D50-B1E1FBF96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C:\Users\aholowinsky\Documents\McGrawHill\Sayre Micro Image Bank\Ch5\Fig5_2.bmp"/>
          <p:cNvPicPr/>
          <p:nvPr/>
        </p:nvPicPr>
        <p:blipFill>
          <a:blip r:embed="rId1"/>
          <a:stretch/>
        </p:blipFill>
        <p:spPr>
          <a:xfrm>
            <a:off x="0" y="1757520"/>
            <a:ext cx="9144000" cy="389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Explain the law of diminishing marginal util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Derive a consumers’ purchasing rule which ensures that satisfaction is maximize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Explain how marginal utility theory is applicable to real-world exampl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Provide a theoretical rationale for downward sloping demand curv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7DCC261-6A6D-4A45-833D-E9B1AA6CC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amond Water Paradox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is water (which has a very high value in use) inexpensive, while diamonds (which have a low value in use) expensive?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reflected 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tal util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exchan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he price) is determined by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ginal utili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EECC9BF-6CC8-442C-9FBB-B96AFC413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ifference between what a customer is willing to pay and the actual price of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30D6523-CB45-45B0-9A2C-11729C511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25560" y="2502000"/>
          <a:ext cx="7315200" cy="1708200"/>
        </p:xfrm>
        <a:graphic>
          <a:graphicData uri="http://schemas.openxmlformats.org/drawingml/2006/table">
            <a:tbl>
              <a:tblPr/>
              <a:tblGrid>
                <a:gridCol w="1347840"/>
                <a:gridCol w="987480"/>
                <a:gridCol w="792000"/>
                <a:gridCol w="2303640"/>
                <a:gridCol w="188424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ms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"/>
          <p:cNvSpPr/>
          <p:nvPr/>
        </p:nvSpPr>
        <p:spPr>
          <a:xfrm>
            <a:off x="1351080" y="4626000"/>
            <a:ext cx="64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consumer surplus (MC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M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90480" y="5307120"/>
            <a:ext cx="797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nsumer surplu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F6BA9B1-66AE-45BC-B6D4-43F440154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Fig5_3.bmp"/>
          <p:cNvPicPr/>
          <p:nvPr/>
        </p:nvPicPr>
        <p:blipFill>
          <a:blip r:embed="rId1"/>
          <a:stretch/>
        </p:blipFill>
        <p:spPr>
          <a:xfrm>
            <a:off x="0" y="1349280"/>
            <a:ext cx="9005760" cy="39499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9"/>
          <p:cNvSpPr/>
          <p:nvPr/>
        </p:nvSpPr>
        <p:spPr>
          <a:xfrm>
            <a:off x="957600" y="54658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rplus = ½ x (32-20) x (60,000-0) = $3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dd up all consumer surpl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E2D529C-39A1-480D-A559-8F3F6CF0B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8" descr="Fig5_4.bmp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F9004AC-4B33-450A-97DD-072420184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partial units cannot be bought, what is the marginal consumer surplus for each unit bought, and what is the total consumer surplus if the price is $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403360" y="2786040"/>
          <a:ext cx="4262400" cy="2093760"/>
        </p:xfrm>
        <a:graphic>
          <a:graphicData uri="http://schemas.openxmlformats.org/drawingml/2006/table">
            <a:tbl>
              <a:tblPr/>
              <a:tblGrid>
                <a:gridCol w="2140200"/>
                <a:gridCol w="21222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6C35E1F-AC8E-4701-B77E-E50A7340A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1351080" y="3772800"/>
            <a:ext cx="643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Qty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Willing to pay    Actual Price    Marginal Sur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8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7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6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otal consumer surplus =  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413080" y="1254240"/>
          <a:ext cx="4263840" cy="2095560"/>
        </p:xfrm>
        <a:graphic>
          <a:graphicData uri="http://schemas.openxmlformats.org/drawingml/2006/table">
            <a:tbl>
              <a:tblPr/>
              <a:tblGrid>
                <a:gridCol w="2139840"/>
                <a:gridCol w="21240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elling of an identical product at a different price to different custom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reasons other than differences in the cost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different demands for the same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therefore prepared to pay different pr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7DDFB72-66F1-4E13-A45F-FC3B6F977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7388901-DBD2-4E86-8272-1D830620F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8" descr="Fig5_5.bmp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63840"/>
            <a:ext cx="822960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actice price discrimination, must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groups of customers with different demand elastici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parate them from the other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ose obtaining the lower prices cannot resell the produc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e seller has control over the pric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5843F22-54A2-4DE4-B59D-4E3876BD9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0E6460D-BD35-42FE-B810-5DD090FF6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 for haircuts from seniors differs greatly from that from your other customer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in order to maximize your sales revenu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052720" y="2093760"/>
          <a:ext cx="5021280" cy="2452680"/>
        </p:xfrm>
        <a:graphic>
          <a:graphicData uri="http://schemas.openxmlformats.org/drawingml/2006/table">
            <a:tbl>
              <a:tblPr/>
              <a:tblGrid>
                <a:gridCol w="1562040"/>
                <a:gridCol w="1673280"/>
                <a:gridCol w="178596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Understand why consumers generally value a product more than the price they pa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Understand why some sellers charge different prices to different consumers for the same product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D7987A6-0C21-441A-98CC-B99517B79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172F71C-EB73-4CDD-9C36-0EA7F3889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690480" y="500652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2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, which gives a total sales revenue of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112AC85-AFA1-4047-BFBB-BCD3B279B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to maximize your reve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690480" y="502416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o seniors (total revenue of $160).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8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or $20) to the other customers (total revenue of $180).  (In total, then, the sales revenue would b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4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72150E2-2E43-4DA9-9A40-1814187CE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arginal utility and total util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s’ optimal purchasing rule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law of diminishing marginal utility and how it relates to a downward sloping demand cur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 surplus and how to calculate i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Price discrimination and the conditions requir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ra or additional uni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tisfaction or pleasure derived from the consumption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6E47EE2-C319-4BAF-B544-CE2D85142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4736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rived from the consumption of an extra unit of a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the marginal utility from each un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79AC5CA-26B2-467C-8534-9FA8A8391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127240" y="3359160"/>
            <a:ext cx="4805280" cy="1074600"/>
            <a:chOff x="2127240" y="3359160"/>
            <a:chExt cx="4805280" cy="1074600"/>
          </a:xfrm>
        </p:grpSpPr>
        <p:sp>
          <p:nvSpPr>
            <p:cNvPr id="449" name="Rounded Rectangle 8"/>
            <p:cNvSpPr/>
            <p:nvPr/>
          </p:nvSpPr>
          <p:spPr>
            <a:xfrm>
              <a:off x="2127240" y="3359160"/>
              <a:ext cx="480528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2268000" y="3486600"/>
              <a:ext cx="4513680" cy="80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applies when: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 is behaving rational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’s objective is maximum satisfa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s and consumption take place over a short period of ti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nits purchased may sometimes be sets of i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BFC8DE2-46C7-41DD-B069-E3284652C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8560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5.1 Total Marginal Ut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736BFDB-678E-41E9-BB90-69677D7AC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4400" y="2530440"/>
          <a:ext cx="7294680" cy="3073320"/>
        </p:xfrm>
        <a:graphic>
          <a:graphicData uri="http://schemas.openxmlformats.org/drawingml/2006/table">
            <a:tbl>
              <a:tblPr/>
              <a:tblGrid>
                <a:gridCol w="2195640"/>
                <a:gridCol w="2886120"/>
                <a:gridCol w="2212920"/>
              </a:tblGrid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ginal Utility (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Utility (T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Marginal Util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creases as successive units of a product are consum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C824D2A-F562-44B9-8956-D7892B440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50618A9-A66E-4518-AA37-9CCFAF1AE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8" descr="Fig5_1.bmp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0:41Z</dcterms:modified>
  <cp:revision>277</cp:revision>
  <dc:subject/>
  <dc:title>Slide 1</dc:title>
</cp:coreProperties>
</file>